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F8B-9237-4D37-91F2-9EE1E1899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9CA4-83A1-48AB-A17E-AECC1865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DCF-59B3-48A2-817A-AB66A1EC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C7F-CCAE-42B3-8193-2D05D5775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0E6F-08C3-4C4C-99E5-48DA46333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72EF-FA45-4731-8F52-285D43A2D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A58C-930D-4FDE-9A54-3195DFCD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o is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 Hatfield and Ken Pinzk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1201-6A3E-4258-9C78-F5F5ED0E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14C-A728-40D1-A771-E3CBB47F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EC26-B6F7-4247-BB2F-60A9CB55D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715-02C4-403B-8CAD-E19E2E17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B492-5B63-458B-AE2A-DC05B6BD7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84A-2582-4E66-8F11-338A19520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B40-BB72-4989-968B-AB4D1DBE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EAEF-010D-4188-B440-8F2981AC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22A-7134-497E-ADE0-A6AF186A8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DBAE-63F7-4B3D-B028-F15D4659D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2486-03D5-4DD3-8848-CD5FD7E1D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6"/>
          <p:cNvGrpSpPr/>
          <p:nvPr/>
        </p:nvGrpSpPr>
        <p:grpSpPr>
          <a:xfrm>
            <a:off x="2514600" y="1087560"/>
            <a:ext cx="4714560" cy="5236200"/>
            <a:chOff x="2514600" y="1087560"/>
            <a:chExt cx="4714560" cy="5236200"/>
          </a:xfrm>
        </p:grpSpPr>
        <p:sp>
          <p:nvSpPr>
            <p:cNvPr id="82" name="Oval 7"/>
            <p:cNvSpPr/>
            <p:nvPr/>
          </p:nvSpPr>
          <p:spPr>
            <a:xfrm>
              <a:off x="3098520" y="5243040"/>
              <a:ext cx="3362040" cy="108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8" descr="wire01 copy"/>
            <p:cNvPicPr/>
            <p:nvPr/>
          </p:nvPicPr>
          <p:blipFill>
            <a:blip r:embed="rId1"/>
            <a:stretch/>
          </p:blipFill>
          <p:spPr>
            <a:xfrm>
              <a:off x="2514600" y="1087560"/>
              <a:ext cx="4714560" cy="47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124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Prentice</a:t>
            </a:r>
            <a:r>
              <a:rPr b="0" i="1" lang="en-US" sz="4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Hall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TH SCI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28480" y="51814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rbu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tge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641120" y="5348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5105520" y="-360"/>
            <a:ext cx="4068360" cy="3305160"/>
            <a:chOff x="5105520" y="-360"/>
            <a:chExt cx="4068360" cy="3305160"/>
          </a:xfrm>
        </p:grpSpPr>
        <p:sp>
          <p:nvSpPr>
            <p:cNvPr id="88" name="Freeform 17"/>
            <p:cNvSpPr/>
            <p:nvPr/>
          </p:nvSpPr>
          <p:spPr>
            <a:xfrm rot="10800000">
              <a:off x="5119200" y="-360"/>
              <a:ext cx="405468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 rot="10800000">
              <a:off x="5105520" y="14040"/>
              <a:ext cx="4054320" cy="134280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8"/>
                </a:gs>
                <a:gs pos="100000">
                  <a:srgbClr val="ff3e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24"/>
          <p:cNvGrpSpPr/>
          <p:nvPr/>
        </p:nvGrpSpPr>
        <p:grpSpPr>
          <a:xfrm>
            <a:off x="0" y="3546360"/>
            <a:ext cx="4054320" cy="3311640"/>
            <a:chOff x="0" y="3546360"/>
            <a:chExt cx="4054320" cy="3311640"/>
          </a:xfrm>
        </p:grpSpPr>
        <p:sp>
          <p:nvSpPr>
            <p:cNvPr id="91" name="Freeform 20"/>
            <p:cNvSpPr/>
            <p:nvPr/>
          </p:nvSpPr>
          <p:spPr>
            <a:xfrm>
              <a:off x="0" y="3546360"/>
              <a:ext cx="405432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0" y="5514840"/>
              <a:ext cx="4054320" cy="1343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e44"/>
                </a:gs>
                <a:gs pos="100000">
                  <a:srgbClr val="ff0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00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01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5"/>
              <p:cNvSpPr/>
              <p:nvPr/>
            </p:nvSpPr>
            <p:spPr>
              <a:xfrm>
                <a:off x="1020600" y="1638360"/>
                <a:ext cx="379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Doppler Effec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04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06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09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1260360" y="2163600"/>
            <a:ext cx="75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ppler eff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pparent change in frequency of electromagnetic or sound waves caused by the relative motions of the source and the ob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260360" y="3929040"/>
            <a:ext cx="75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astronomy, the Doppler effect is used to determine whether a star or other body in space is moving away from or toward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15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17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20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Doppler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14"/>
          <p:cNvGrpSpPr/>
          <p:nvPr/>
        </p:nvGrpSpPr>
        <p:grpSpPr>
          <a:xfrm>
            <a:off x="247680" y="2006640"/>
            <a:ext cx="8648640" cy="4165560"/>
            <a:chOff x="247680" y="2006640"/>
            <a:chExt cx="8648640" cy="4165560"/>
          </a:xfrm>
        </p:grpSpPr>
        <p:sp>
          <p:nvSpPr>
            <p:cNvPr id="224" name="AutoShape 11"/>
            <p:cNvSpPr/>
            <p:nvPr/>
          </p:nvSpPr>
          <p:spPr>
            <a:xfrm>
              <a:off x="247680" y="2006640"/>
              <a:ext cx="8648640" cy="4165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Picture 13" descr=""/>
            <p:cNvPicPr/>
            <p:nvPr/>
          </p:nvPicPr>
          <p:blipFill>
            <a:blip r:embed="rId1"/>
            <a:stretch/>
          </p:blipFill>
          <p:spPr>
            <a:xfrm>
              <a:off x="501480" y="2430360"/>
              <a:ext cx="8142480" cy="33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2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2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5"/>
              <p:cNvSpPr/>
              <p:nvPr/>
            </p:nvSpPr>
            <p:spPr>
              <a:xfrm>
                <a:off x="1022040" y="1638360"/>
                <a:ext cx="451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ra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3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3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3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1260360" y="2163600"/>
            <a:ext cx="747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racting telesc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telescope 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s a lens to bend or refract 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1260360" y="307332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1736640" y="3548160"/>
            <a:ext cx="702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lens in a refracting telescope, the objective lens, produces an image by bending light from a distant object so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light converges at an area called the focus (focus = central poi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43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48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ck Tele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1581120" y="2070000"/>
            <a:ext cx="5981760" cy="4216680"/>
            <a:chOff x="1581120" y="2070000"/>
            <a:chExt cx="5981760" cy="4216680"/>
          </a:xfrm>
        </p:grpSpPr>
        <p:sp>
          <p:nvSpPr>
            <p:cNvPr id="252" name="AutoShape 11"/>
            <p:cNvSpPr/>
            <p:nvPr/>
          </p:nvSpPr>
          <p:spPr>
            <a:xfrm>
              <a:off x="1581120" y="2070000"/>
              <a:ext cx="5981760" cy="42166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Picture 13" descr=""/>
            <p:cNvPicPr/>
            <p:nvPr/>
          </p:nvPicPr>
          <p:blipFill>
            <a:blip r:embed="rId1"/>
            <a:stretch/>
          </p:blipFill>
          <p:spPr>
            <a:xfrm>
              <a:off x="1961640" y="2391840"/>
              <a:ext cx="5221080" cy="357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55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60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mple Refracting Tele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14"/>
          <p:cNvGrpSpPr/>
          <p:nvPr/>
        </p:nvGrpSpPr>
        <p:grpSpPr>
          <a:xfrm>
            <a:off x="209520" y="2247840"/>
            <a:ext cx="8724960" cy="3593880"/>
            <a:chOff x="209520" y="2247840"/>
            <a:chExt cx="8724960" cy="3593880"/>
          </a:xfrm>
        </p:grpSpPr>
        <p:sp>
          <p:nvSpPr>
            <p:cNvPr id="264" name="AutoShape 11"/>
            <p:cNvSpPr/>
            <p:nvPr/>
          </p:nvSpPr>
          <p:spPr>
            <a:xfrm>
              <a:off x="209520" y="2247840"/>
              <a:ext cx="8724960" cy="35938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13" descr=""/>
            <p:cNvPicPr/>
            <p:nvPr/>
          </p:nvPicPr>
          <p:blipFill>
            <a:blip r:embed="rId1"/>
            <a:stretch/>
          </p:blipFill>
          <p:spPr>
            <a:xfrm>
              <a:off x="401760" y="2630160"/>
              <a:ext cx="8340480" cy="282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6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6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5"/>
              <p:cNvSpPr/>
              <p:nvPr/>
            </p:nvSpPr>
            <p:spPr>
              <a:xfrm>
                <a:off x="1022040" y="1638360"/>
                <a:ext cx="451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ra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7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7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7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736640" y="263376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romatic aber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property of a lens whereby light of different colors is focused at different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82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83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5"/>
              <p:cNvSpPr/>
              <p:nvPr/>
            </p:nvSpPr>
            <p:spPr>
              <a:xfrm>
                <a:off x="1022040" y="1638360"/>
                <a:ext cx="446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le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86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88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91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1260360" y="216360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ing telesc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telescope that reflects light off a concave mirror, focusing the image in front of the mi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1260360" y="348624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ing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1736640" y="3967200"/>
            <a:ext cx="70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rge optical telescopes are reflectors. Light does not pass through a mirror, so the glass for a reflecting telescope does not have to be of optical 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98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00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03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ewing Methods wit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lecting Telesco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Group 14"/>
          <p:cNvGrpSpPr/>
          <p:nvPr/>
        </p:nvGrpSpPr>
        <p:grpSpPr>
          <a:xfrm>
            <a:off x="2921040" y="1587600"/>
            <a:ext cx="3301920" cy="5092560"/>
            <a:chOff x="2921040" y="1587600"/>
            <a:chExt cx="3301920" cy="5092560"/>
          </a:xfrm>
        </p:grpSpPr>
        <p:sp>
          <p:nvSpPr>
            <p:cNvPr id="307" name="AutoShape 11"/>
            <p:cNvSpPr/>
            <p:nvPr/>
          </p:nvSpPr>
          <p:spPr>
            <a:xfrm>
              <a:off x="2921040" y="1587600"/>
              <a:ext cx="3301920" cy="5092560"/>
            </a:xfrm>
            <a:custGeom>
              <a:avLst/>
              <a:gdLst>
                <a:gd name="textAreaLeft" fmla="*/ 213840 w 3301920"/>
                <a:gd name="textAreaRight" fmla="*/ 3088080 w 3301920"/>
                <a:gd name="textAreaTop" fmla="*/ 213840 h 5092560"/>
                <a:gd name="textAreaBottom" fmla="*/ 4878720 h 5092560"/>
              </a:gdLst>
              <a:ahLst/>
              <a:rect l="textAreaLeft" t="textAreaTop" r="textAreaRight" b="textAreaBottom"/>
              <a:pathLst>
                <a:path w="21600" h="33312">
                  <a:moveTo>
                    <a:pt x="4780" y="0"/>
                  </a:moveTo>
                  <a:arcTo wR="4780" hR="4780" stAng="16200000" swAng="-5400000"/>
                  <a:lnTo>
                    <a:pt x="0" y="28532"/>
                  </a:lnTo>
                  <a:arcTo wR="4780" hR="4780" stAng="10800000" swAng="-5400000"/>
                  <a:lnTo>
                    <a:pt x="16820" y="33312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Picture 13" descr=""/>
            <p:cNvPicPr/>
            <p:nvPr/>
          </p:nvPicPr>
          <p:blipFill>
            <a:blip r:embed="rId1"/>
            <a:stretch/>
          </p:blipFill>
          <p:spPr>
            <a:xfrm>
              <a:off x="3460680" y="1728720"/>
              <a:ext cx="2220840" cy="481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10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11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5"/>
              <p:cNvSpPr/>
              <p:nvPr/>
            </p:nvSpPr>
            <p:spPr>
              <a:xfrm>
                <a:off x="1022040" y="1638360"/>
                <a:ext cx="446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le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14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16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19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ies of Optical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1736640" y="264492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efracting and reflecting telescopes have three properties that aid astronomers in their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1992240" y="379872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ght-gather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1992240" y="421956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olv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1992240" y="46530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gnify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28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29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5"/>
              <p:cNvSpPr/>
              <p:nvPr/>
            </p:nvSpPr>
            <p:spPr>
              <a:xfrm>
                <a:off x="1021320" y="1638360"/>
                <a:ext cx="573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Detecting Invisible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32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34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37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1736640" y="26337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dio tele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telescope designed to make observations in radio wave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1736640" y="343224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 telescope focuses the incoming radio waves on an antenna, which, just like a radio antenna, absorbs and transmits these waves to an ampl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0" y="7920"/>
            <a:ext cx="9144000" cy="2209680"/>
          </a:xfrm>
          <a:prstGeom prst="rect">
            <a:avLst/>
          </a:prstGeom>
          <a:solidFill>
            <a:srgbClr val="d00c0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1600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2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905120" y="9079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udying the S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44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46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49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6"/>
          <p:cNvGrpSpPr/>
          <p:nvPr/>
        </p:nvGrpSpPr>
        <p:grpSpPr>
          <a:xfrm>
            <a:off x="797040" y="2476440"/>
            <a:ext cx="7549920" cy="3162240"/>
            <a:chOff x="797040" y="2476440"/>
            <a:chExt cx="7549920" cy="3162240"/>
          </a:xfrm>
        </p:grpSpPr>
        <p:sp>
          <p:nvSpPr>
            <p:cNvPr id="353" name="AutoShape 11"/>
            <p:cNvSpPr/>
            <p:nvPr/>
          </p:nvSpPr>
          <p:spPr>
            <a:xfrm>
              <a:off x="797040" y="2476440"/>
              <a:ext cx="7549920" cy="31622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Group 15"/>
            <p:cNvGrpSpPr/>
            <p:nvPr/>
          </p:nvGrpSpPr>
          <p:grpSpPr>
            <a:xfrm>
              <a:off x="988200" y="2885040"/>
              <a:ext cx="7164720" cy="2346480"/>
              <a:chOff x="988200" y="2885040"/>
              <a:chExt cx="7164720" cy="2346480"/>
            </a:xfrm>
          </p:grpSpPr>
          <p:pic>
            <p:nvPicPr>
              <p:cNvPr id="355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988200" y="2885040"/>
                <a:ext cx="3658320" cy="23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4552200" y="2885040"/>
                <a:ext cx="3600720" cy="231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58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59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5"/>
              <p:cNvSpPr/>
              <p:nvPr/>
            </p:nvSpPr>
            <p:spPr>
              <a:xfrm>
                <a:off x="1021320" y="1638360"/>
                <a:ext cx="573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Detecting Invisible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62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3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64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67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1209600" y="2163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1736640" y="263520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telescopes are much less affected by turbulence in the atmosphere, clouds, and the wea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1736640" y="378792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tective dome is required, which reduces the cost of co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1736640" y="458784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telescopes can “see” through interstellar dust clouds that obscure visible wave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75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76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5"/>
              <p:cNvSpPr/>
              <p:nvPr/>
            </p:nvSpPr>
            <p:spPr>
              <a:xfrm>
                <a:off x="1022760" y="1638360"/>
                <a:ext cx="370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ace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79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81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84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1260360" y="21636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telescopes orbit above Earth’s atmosphere and thus produce clearer images than Earth-based telesco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1736640" y="3978360"/>
            <a:ext cx="70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pace telescope, built by NASA, was the Hubble Space Telescope. Hubble was put into orbit around Earth in April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1260360" y="34988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ble Space Tele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91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93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96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ubble Space Tele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Group 14"/>
          <p:cNvGrpSpPr/>
          <p:nvPr/>
        </p:nvGrpSpPr>
        <p:grpSpPr>
          <a:xfrm>
            <a:off x="2908440" y="2286000"/>
            <a:ext cx="3327120" cy="3556080"/>
            <a:chOff x="2908440" y="2286000"/>
            <a:chExt cx="3327120" cy="3556080"/>
          </a:xfrm>
        </p:grpSpPr>
        <p:sp>
          <p:nvSpPr>
            <p:cNvPr id="400" name="AutoShape 11"/>
            <p:cNvSpPr/>
            <p:nvPr/>
          </p:nvSpPr>
          <p:spPr>
            <a:xfrm>
              <a:off x="2908440" y="2286000"/>
              <a:ext cx="3327120" cy="3556080"/>
            </a:xfrm>
            <a:custGeom>
              <a:avLst/>
              <a:gdLst>
                <a:gd name="textAreaLeft" fmla="*/ 215640 w 3327120"/>
                <a:gd name="textAreaRight" fmla="*/ 3111480 w 3327120"/>
                <a:gd name="textAreaTop" fmla="*/ 215640 h 3556080"/>
                <a:gd name="textAreaBottom" fmla="*/ 3340440 h 3556080"/>
              </a:gdLst>
              <a:ahLst/>
              <a:rect l="textAreaLeft" t="textAreaTop" r="textAreaRight" b="textAreaBottom"/>
              <a:pathLst>
                <a:path w="21600" h="23086">
                  <a:moveTo>
                    <a:pt x="4780" y="0"/>
                  </a:moveTo>
                  <a:arcTo wR="4780" hR="4780" stAng="16200000" swAng="-5400000"/>
                  <a:lnTo>
                    <a:pt x="0" y="18306"/>
                  </a:lnTo>
                  <a:arcTo wR="4780" hR="4780" stAng="10800000" swAng="-5400000"/>
                  <a:lnTo>
                    <a:pt x="16820" y="23086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Picture 13" descr=""/>
            <p:cNvPicPr/>
            <p:nvPr/>
          </p:nvPicPr>
          <p:blipFill>
            <a:blip r:embed="rId1"/>
            <a:stretch/>
          </p:blipFill>
          <p:spPr>
            <a:xfrm>
              <a:off x="3243600" y="2645280"/>
              <a:ext cx="2656080" cy="283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403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5"/>
              <p:cNvSpPr/>
              <p:nvPr/>
            </p:nvSpPr>
            <p:spPr>
              <a:xfrm>
                <a:off x="1022760" y="1638360"/>
                <a:ext cx="370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ace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07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09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12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1260360" y="2163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pace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1736640" y="263520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udy X-rays, NASA uses the Chandra X-Ray Observatory. This space telescope was launched in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1736640" y="378936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pace telescope, the Compton Gamma-Ray Observatory, was used to study both visible light and gamma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1736640" y="495612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1, NASA plans to launch the James Webb Space Telescope to study infrare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20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22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25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ages of the Milky Way Galax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4"/>
          <p:cNvGrpSpPr/>
          <p:nvPr/>
        </p:nvGrpSpPr>
        <p:grpSpPr>
          <a:xfrm>
            <a:off x="1149480" y="1943280"/>
            <a:ext cx="6845040" cy="4431960"/>
            <a:chOff x="1149480" y="1943280"/>
            <a:chExt cx="6845040" cy="4431960"/>
          </a:xfrm>
        </p:grpSpPr>
        <p:sp>
          <p:nvSpPr>
            <p:cNvPr id="429" name="AutoShape 11"/>
            <p:cNvSpPr/>
            <p:nvPr/>
          </p:nvSpPr>
          <p:spPr>
            <a:xfrm>
              <a:off x="1149480" y="1943280"/>
              <a:ext cx="6845040" cy="44319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13" descr=""/>
            <p:cNvPicPr/>
            <p:nvPr/>
          </p:nvPicPr>
          <p:blipFill>
            <a:blip r:embed="rId1"/>
            <a:stretch/>
          </p:blipFill>
          <p:spPr>
            <a:xfrm>
              <a:off x="1509840" y="2238480"/>
              <a:ext cx="6123600" cy="384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432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433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5"/>
              <p:cNvSpPr/>
              <p:nvPr/>
            </p:nvSpPr>
            <p:spPr>
              <a:xfrm>
                <a:off x="1020600" y="16383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36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38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41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1260360" y="2163600"/>
            <a:ext cx="75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sun is made of gas, no sharp boundaries exist between its various layers. Keeping this in mind, we can divide the sun into four parts: the solar interior; the visible surface, or photosphere; and two atmospheric layers, the chromosphere and cor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446" name="Group 21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447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5"/>
              <p:cNvSpPr/>
              <p:nvPr/>
            </p:nvSpPr>
            <p:spPr>
              <a:xfrm>
                <a:off x="1020600" y="14889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50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52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55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1736640" y="2494080"/>
            <a:ext cx="710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hotosphe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region of the sun that radiates energy to space, or the visible surface of the su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1736640" y="3203640"/>
            <a:ext cx="710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consists of a layer of incandescent gas less than 500 kilometers thic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1736640" y="3924360"/>
            <a:ext cx="7102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exhibits 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grainy texture made up of many small, bright markings, calle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granul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produced by convec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1736640" y="4960800"/>
            <a:ext cx="71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st of the elements found on Earth also occur on the su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736640" y="5668920"/>
            <a:ext cx="7180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s temperature averages approximately 6000 K (10,000ºF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65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67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70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ructure of the S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4"/>
          <p:cNvGrpSpPr/>
          <p:nvPr/>
        </p:nvGrpSpPr>
        <p:grpSpPr>
          <a:xfrm>
            <a:off x="704880" y="1587600"/>
            <a:ext cx="7734240" cy="5092560"/>
            <a:chOff x="704880" y="1587600"/>
            <a:chExt cx="7734240" cy="5092560"/>
          </a:xfrm>
        </p:grpSpPr>
        <p:sp>
          <p:nvSpPr>
            <p:cNvPr id="474" name="AutoShape 11"/>
            <p:cNvSpPr/>
            <p:nvPr/>
          </p:nvSpPr>
          <p:spPr>
            <a:xfrm>
              <a:off x="704880" y="1587600"/>
              <a:ext cx="773424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Picture 13" descr=""/>
            <p:cNvPicPr/>
            <p:nvPr/>
          </p:nvPicPr>
          <p:blipFill>
            <a:blip r:embed="rId1"/>
            <a:stretch/>
          </p:blipFill>
          <p:spPr>
            <a:xfrm>
              <a:off x="1220760" y="1917720"/>
              <a:ext cx="6702480" cy="443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477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478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5"/>
              <p:cNvSpPr/>
              <p:nvPr/>
            </p:nvSpPr>
            <p:spPr>
              <a:xfrm>
                <a:off x="1020600" y="14889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8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8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8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1736640" y="24890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layer of the solar atmosphere found directly above the phot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1736640" y="36259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thin, hot layer of incandescent gases a few thousand kilometers th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1736640" y="439416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p contains numer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icul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narrow jets of rising mate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9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9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1021320" y="1638360"/>
                <a:ext cx="530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lectromagnetic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0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0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0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260360" y="2163600"/>
            <a:ext cx="763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magnetic radiation includes gamma rays, X-rays, ultraviolet light, visible light, infrared radiation, microwaves, and radio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60360" y="390996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ectromagnetic spec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arrangement of electromagnetic radiation according to wave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94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96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14"/>
          <p:cNvGrpSpPr/>
          <p:nvPr/>
        </p:nvGrpSpPr>
        <p:grpSpPr>
          <a:xfrm>
            <a:off x="1638360" y="1612800"/>
            <a:ext cx="5867280" cy="5092920"/>
            <a:chOff x="1638360" y="1612800"/>
            <a:chExt cx="5867280" cy="5092920"/>
          </a:xfrm>
        </p:grpSpPr>
        <p:sp>
          <p:nvSpPr>
            <p:cNvPr id="503" name="AutoShape 11"/>
            <p:cNvSpPr/>
            <p:nvPr/>
          </p:nvSpPr>
          <p:spPr>
            <a:xfrm>
              <a:off x="1638360" y="1612800"/>
              <a:ext cx="5867280" cy="509292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4" name="Picture 13" descr=""/>
            <p:cNvPicPr/>
            <p:nvPr/>
          </p:nvPicPr>
          <p:blipFill>
            <a:blip r:embed="rId1"/>
            <a:stretch/>
          </p:blipFill>
          <p:spPr>
            <a:xfrm>
              <a:off x="2266920" y="1854360"/>
              <a:ext cx="4611600" cy="46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06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07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5"/>
              <p:cNvSpPr/>
              <p:nvPr/>
            </p:nvSpPr>
            <p:spPr>
              <a:xfrm>
                <a:off x="1020600" y="14889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10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12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15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6"/>
          <p:cNvSpPr/>
          <p:nvPr/>
        </p:nvSpPr>
        <p:spPr>
          <a:xfrm>
            <a:off x="1736640" y="247644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ro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outer, weak layer of the solar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1736640" y="32623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e at the top of the corona exceeds 1 million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1736640" y="406404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 wi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tream of protons and electrons ejected at high speed from the solar cor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23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24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5"/>
              <p:cNvSpPr/>
              <p:nvPr/>
            </p:nvSpPr>
            <p:spPr>
              <a:xfrm>
                <a:off x="1020960" y="1488960"/>
                <a:ext cx="311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Activ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27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29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32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6"/>
          <p:cNvSpPr/>
          <p:nvPr/>
        </p:nvSpPr>
        <p:spPr>
          <a:xfrm>
            <a:off x="1736640" y="3276720"/>
            <a:ext cx="70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spots appear dark because of their temperature, which is about 1500 K less than that of the surrounding solar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1736640" y="2475000"/>
            <a:ext cx="70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nsp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dark spot on the sun that is cool in contrast to the surrounding phot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39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41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44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16"/>
          <p:cNvGrpSpPr/>
          <p:nvPr/>
        </p:nvGrpSpPr>
        <p:grpSpPr>
          <a:xfrm>
            <a:off x="247680" y="2031840"/>
            <a:ext cx="8623440" cy="4089600"/>
            <a:chOff x="247680" y="2031840"/>
            <a:chExt cx="8623440" cy="4089600"/>
          </a:xfrm>
        </p:grpSpPr>
        <p:sp>
          <p:nvSpPr>
            <p:cNvPr id="548" name="AutoShape 11"/>
            <p:cNvSpPr/>
            <p:nvPr/>
          </p:nvSpPr>
          <p:spPr>
            <a:xfrm>
              <a:off x="247680" y="2031840"/>
              <a:ext cx="8623440" cy="40896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15"/>
            <p:cNvGrpSpPr/>
            <p:nvPr/>
          </p:nvGrpSpPr>
          <p:grpSpPr>
            <a:xfrm>
              <a:off x="587520" y="2487600"/>
              <a:ext cx="7945200" cy="3179880"/>
              <a:chOff x="587520" y="2487600"/>
              <a:chExt cx="7945200" cy="3179880"/>
            </a:xfrm>
          </p:grpSpPr>
          <p:pic>
            <p:nvPicPr>
              <p:cNvPr id="55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2494080"/>
                <a:ext cx="4103640" cy="317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87520" y="2487600"/>
                <a:ext cx="3968640" cy="314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53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54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5"/>
              <p:cNvSpPr/>
              <p:nvPr/>
            </p:nvSpPr>
            <p:spPr>
              <a:xfrm>
                <a:off x="1020960" y="1488960"/>
                <a:ext cx="311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Activ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57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59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62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736640" y="328932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ces are ionized gases trapped by magnetic fields that extend from regions of intense sola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1736640" y="249228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n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huge cloudlike structures consisting of chromospheric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69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71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74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lar Promin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14"/>
          <p:cNvGrpSpPr/>
          <p:nvPr/>
        </p:nvGrpSpPr>
        <p:grpSpPr>
          <a:xfrm>
            <a:off x="882720" y="1555920"/>
            <a:ext cx="7378560" cy="5092560"/>
            <a:chOff x="882720" y="1555920"/>
            <a:chExt cx="7378560" cy="5092560"/>
          </a:xfrm>
        </p:grpSpPr>
        <p:sp>
          <p:nvSpPr>
            <p:cNvPr id="578" name="AutoShape 11"/>
            <p:cNvSpPr/>
            <p:nvPr/>
          </p:nvSpPr>
          <p:spPr>
            <a:xfrm>
              <a:off x="882720" y="1555920"/>
              <a:ext cx="73785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Picture 13" descr=""/>
            <p:cNvPicPr/>
            <p:nvPr/>
          </p:nvPicPr>
          <p:blipFill>
            <a:blip r:embed="rId1"/>
            <a:stretch/>
          </p:blipFill>
          <p:spPr>
            <a:xfrm>
              <a:off x="1380960" y="1963800"/>
              <a:ext cx="6380280" cy="427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81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82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5"/>
              <p:cNvSpPr/>
              <p:nvPr/>
            </p:nvSpPr>
            <p:spPr>
              <a:xfrm>
                <a:off x="1020960" y="1488960"/>
                <a:ext cx="311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Activ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85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87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90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6"/>
          <p:cNvSpPr/>
          <p:nvPr/>
        </p:nvSpPr>
        <p:spPr>
          <a:xfrm>
            <a:off x="1736640" y="39956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ir existence, solar flares release enormous amounts of energy, much of it in the form of ultraviolet, radio, and X-ray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1736640" y="2492280"/>
            <a:ext cx="701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 fl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rief outbursts that normally last about an hour and appear as a sudden brightening of the region above a sunspot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1736640" y="5143680"/>
            <a:ext cx="693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sult of solar flares, are bright displays of ever-changing light caused by solar radiation interacting with the upper atmosphere in the region of the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98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00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03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urora Boreal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Group 14"/>
          <p:cNvGrpSpPr/>
          <p:nvPr/>
        </p:nvGrpSpPr>
        <p:grpSpPr>
          <a:xfrm>
            <a:off x="882720" y="1555920"/>
            <a:ext cx="7378560" cy="5092560"/>
            <a:chOff x="882720" y="1555920"/>
            <a:chExt cx="7378560" cy="5092560"/>
          </a:xfrm>
        </p:grpSpPr>
        <p:sp>
          <p:nvSpPr>
            <p:cNvPr id="607" name="AutoShape 11"/>
            <p:cNvSpPr/>
            <p:nvPr/>
          </p:nvSpPr>
          <p:spPr>
            <a:xfrm>
              <a:off x="882720" y="1555920"/>
              <a:ext cx="73785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Picture 13" descr=""/>
            <p:cNvPicPr/>
            <p:nvPr/>
          </p:nvPicPr>
          <p:blipFill>
            <a:blip r:embed="rId1"/>
            <a:stretch/>
          </p:blipFill>
          <p:spPr>
            <a:xfrm>
              <a:off x="1355760" y="1989360"/>
              <a:ext cx="6432480" cy="422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0"/>
            <a:ext cx="9159840" cy="6692760"/>
            <a:chOff x="0" y="0"/>
            <a:chExt cx="9159840" cy="6692760"/>
          </a:xfrm>
        </p:grpSpPr>
        <p:grpSp>
          <p:nvGrpSpPr>
            <p:cNvPr id="610" name="Group 3"/>
            <p:cNvGrpSpPr/>
            <p:nvPr/>
          </p:nvGrpSpPr>
          <p:grpSpPr>
            <a:xfrm>
              <a:off x="320760" y="1422360"/>
              <a:ext cx="8534160" cy="5270400"/>
              <a:chOff x="320760" y="1422360"/>
              <a:chExt cx="8534160" cy="527040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32076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025640" y="1488960"/>
                <a:ext cx="354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Solar Interio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614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616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619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736640" y="399744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nuclear fusion, energy is released because some matter is actually converted to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1736640" y="24811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ar 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way that the sun produces energy. This reaction converts four hydrogen nuclei into the nucleus of a helium atom, releasing a tremendous amount of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9"/>
          <p:cNvSpPr/>
          <p:nvPr/>
        </p:nvSpPr>
        <p:spPr>
          <a:xfrm>
            <a:off x="1736640" y="5126040"/>
            <a:ext cx="68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ought that a star the size of the sun can exist in its present stable state for 10 billion years. As the sun is already 4.5 billion years old, it is “middle-ag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27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29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32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14"/>
          <p:cNvGrpSpPr/>
          <p:nvPr/>
        </p:nvGrpSpPr>
        <p:grpSpPr>
          <a:xfrm>
            <a:off x="1670040" y="1585800"/>
            <a:ext cx="5803920" cy="5092920"/>
            <a:chOff x="1670040" y="1585800"/>
            <a:chExt cx="5803920" cy="5092920"/>
          </a:xfrm>
        </p:grpSpPr>
        <p:sp>
          <p:nvSpPr>
            <p:cNvPr id="636" name="AutoShape 11"/>
            <p:cNvSpPr/>
            <p:nvPr/>
          </p:nvSpPr>
          <p:spPr>
            <a:xfrm>
              <a:off x="1670040" y="1585800"/>
              <a:ext cx="5803920" cy="509292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7" name="Picture 13" descr=""/>
            <p:cNvPicPr/>
            <p:nvPr/>
          </p:nvPicPr>
          <p:blipFill>
            <a:blip r:embed="rId1"/>
            <a:stretch/>
          </p:blipFill>
          <p:spPr>
            <a:xfrm>
              <a:off x="2219400" y="1779480"/>
              <a:ext cx="4705200" cy="47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12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14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3"/>
          <p:cNvGrpSpPr/>
          <p:nvPr/>
        </p:nvGrpSpPr>
        <p:grpSpPr>
          <a:xfrm>
            <a:off x="882720" y="1587600"/>
            <a:ext cx="7378560" cy="5092560"/>
            <a:chOff x="882720" y="1587600"/>
            <a:chExt cx="7378560" cy="5092560"/>
          </a:xfrm>
        </p:grpSpPr>
        <p:sp>
          <p:nvSpPr>
            <p:cNvPr id="121" name="AutoShape 11"/>
            <p:cNvSpPr/>
            <p:nvPr/>
          </p:nvSpPr>
          <p:spPr>
            <a:xfrm>
              <a:off x="882720" y="1587600"/>
              <a:ext cx="73785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22" descr=""/>
            <p:cNvPicPr/>
            <p:nvPr/>
          </p:nvPicPr>
          <p:blipFill>
            <a:blip r:embed="rId1"/>
            <a:stretch/>
          </p:blipFill>
          <p:spPr>
            <a:xfrm>
              <a:off x="1519200" y="1749600"/>
              <a:ext cx="6105600" cy="477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24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25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5"/>
              <p:cNvSpPr/>
              <p:nvPr/>
            </p:nvSpPr>
            <p:spPr>
              <a:xfrm>
                <a:off x="1021320" y="1638360"/>
                <a:ext cx="530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lectromagnetic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28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30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33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ture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1736640" y="2637000"/>
            <a:ext cx="710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some instances light behaves like waves, and in others, like particles. In the wave sense, light can be thought of as swells in the ocean. This motion is characterized by a property known as wavelength, which is the distance from one wave crest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260360" y="488628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1736640" y="537048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mall packet of light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41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5"/>
              <p:cNvSpPr/>
              <p:nvPr/>
            </p:nvSpPr>
            <p:spPr>
              <a:xfrm>
                <a:off x="1021320" y="1638360"/>
                <a:ext cx="286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ectroscop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45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47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50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260360" y="216360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ectroscop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study of the properties of light that depend on wave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247760" y="35607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1724040" y="40244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spectr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n uninterrupted band of light emitted by an incandescent solid, liquid, or gas unde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5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5"/>
              <p:cNvSpPr/>
              <p:nvPr/>
            </p:nvSpPr>
            <p:spPr>
              <a:xfrm>
                <a:off x="1021320" y="1638360"/>
                <a:ext cx="286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ectroscop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6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6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6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sorption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736640" y="2614680"/>
            <a:ext cx="707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bsorption spect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continuous spectrum produced when white light passes through a cool gas under low pressure. The gas absorbs selected wavelengths of light, and the spectrum looks like it has dark lines superimp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72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73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"/>
              <p:cNvSpPr/>
              <p:nvPr/>
            </p:nvSpPr>
            <p:spPr>
              <a:xfrm>
                <a:off x="1021320" y="1638360"/>
                <a:ext cx="286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ectroscop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78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81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1736640" y="263052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 spectr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eries of bright lines of particular wavelengths produced by a hot gas under low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1736640" y="3795840"/>
            <a:ext cx="71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spectrum of a star is studied, the spectral lines act as “fingerprints.” These lines identify the elements present and thus the star’s chemical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88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90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93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tion of Spect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1047600" y="1587600"/>
            <a:ext cx="7048800" cy="5092560"/>
            <a:chOff x="1047600" y="1587600"/>
            <a:chExt cx="7048800" cy="5092560"/>
          </a:xfrm>
        </p:grpSpPr>
        <p:sp>
          <p:nvSpPr>
            <p:cNvPr id="197" name="AutoShape 11"/>
            <p:cNvSpPr/>
            <p:nvPr/>
          </p:nvSpPr>
          <p:spPr>
            <a:xfrm>
              <a:off x="1047600" y="1587600"/>
              <a:ext cx="70488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Picture 13" descr=""/>
            <p:cNvPicPr/>
            <p:nvPr/>
          </p:nvPicPr>
          <p:blipFill>
            <a:blip r:embed="rId1"/>
            <a:stretch/>
          </p:blipFill>
          <p:spPr>
            <a:xfrm>
              <a:off x="1585800" y="1839960"/>
              <a:ext cx="5970600" cy="458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test</cp:lastModifiedBy>
  <cp:lastPrinted>2004-09-17T19:36:04Z</cp:lastPrinted>
  <dcterms:modified xsi:type="dcterms:W3CDTF">2014-04-25T12:48:30Z</dcterms:modified>
  <cp:revision>929</cp:revision>
  <dc:subject/>
  <dc:title>Volcanoes and Igneous Activity  Earth  -  Chapter 4</dc:title>
</cp:coreProperties>
</file>